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2.wmf" ContentType="image/x-wmf"/>
  <Override PartName="/ppt/media/chimes.wav" ContentType="audio/x-wav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ED-26BA-4068-8995-8C8CDF67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F47-87A8-46CE-9D06-1C14D41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59E-B2F9-4E03-B27C-86D9BB6E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E88-0AAD-422D-9B5A-DA9FEDB8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687-5BFB-46AA-B384-348AFAA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988-8E60-44AA-9912-3A025153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476-852F-4921-8F0C-B81A54C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2D7-081B-4E23-87D8-E3F7A40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050-64AD-4D60-967E-A438A98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BF2-A9CA-453E-8B9F-063C67F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3D3-18E0-4971-8CB3-4E9CD25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71-442E-495B-81D4-3BC0F04E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96D-39CD-40A8-8575-34D9799DA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4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30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9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05740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4320" y="32004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Te gusta nadar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60" name="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Daly Dominguez</cp:lastModifiedBy>
  <dcterms:modified xsi:type="dcterms:W3CDTF">2006-03-18T22:23:42Z</dcterms:modified>
  <cp:revision>30</cp:revision>
  <dc:subject/>
  <dc:title>PowerPoint Presentation</dc:title>
</cp:coreProperties>
</file>